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C52-320F-4A40-BC7C-845E5E30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CA9-9551-4ABE-8A45-BC8C128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236-5BD5-4F51-B6F9-4C5B1260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D1D-B68A-46BF-9901-A154F40A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B3E-25DF-485F-A988-DE498EE9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732-EA5A-44DF-93D3-36D55073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604-B6EC-4F12-9F96-738F836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ED5-32D8-4166-8533-190B94C2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EE0-A977-4AB1-A83F-1C33B32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C09-FBCC-46E5-95FD-17D1E0E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F19-A277-4718-AC24-05116BC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950-151C-47C7-84E0-C111A7F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A18-97FD-4929-AD96-5F2D3997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-2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is excerpt about? (I’m about to put it on the board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NNOTATE and RESP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you read the article, record at LEAST five anno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, in your RRJ respond to this 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w idea did you learn toda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new idea did you learn today? 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imination RRJ 8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ew idea I learned today is that 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is to be true because the text mentioned “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the text explained “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is idea helped me understand 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, Nouns,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hips: 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the world was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er route- spices from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of Spain gave him money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roved that the world was no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, sea mons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lieved the Earth was egg-shaped and the top was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ts: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Christopher Columb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- 3 boats: Nina, pinta, santa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 native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 the world was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question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reading response journal, tell me all the things you already know about the topic of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nowboarding, competition, sports, slavery, memory loss, f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with your response, read quietly. I’ll will be conferencing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pic of my book is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know this because… (2 pieces of Text Evidenc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he things I know about _____________ are: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elped me understand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8-3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rite down ALL the words that pop into your head when you hear the wor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scrimination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 Knowledge Graphic Organi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LY, fill in the innermost circle with words you associate with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talk with your group members and add thei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text as I read out loud.  I am going to show you how I annotat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 read, I write d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-effect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1:50:51Z</dcterms:created>
  <dc:creator>Administrator</dc:creator>
  <dc:description/>
  <dc:language>en-US</dc:language>
  <cp:lastModifiedBy>Administrator</cp:lastModifiedBy>
  <dcterms:modified xsi:type="dcterms:W3CDTF">2010-08-30T13:13:16Z</dcterms:modified>
  <cp:revision>9</cp:revision>
  <dc:subject/>
  <dc:title>Do Now 8-27 I can activate prior knowledge and gain background knowledge in order to better comprehend text. </dc:title>
</cp:coreProperties>
</file>